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7623-82AB-4A53-9BB3-8D16381F2A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95B1-5B8E-47F1-BD92-9C74AF54A9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CF88-3ED6-4322-B405-6018A449E2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BA3D-2ECB-493C-A671-BB65472DD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5E0D-8258-4570-9597-E8964EBB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E12C-BBC6-4B4B-A195-F2B30344A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62EF-DDF6-48F2-83B8-F019231F1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4B41-610E-496B-BABF-521A68DE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63FC-0D7A-4FC2-A269-EB8826D8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E621-EB6C-4369-973D-44AF117E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A019-CD85-4B0A-BE83-35FF99EB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6729-D9FD-4BA7-B4CE-125894D0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2D7D-26ED-49FC-9B93-DDB3BFA4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6C8F-CE35-4CBF-B306-086F030B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2F83-A596-4D2D-BF23-7DC7AD04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DCC7-2C22-4FB2-8C1A-E5ED9D1FCC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-324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49" name=""/>
          <p:cNvSpPr txBox="1"/>
          <p:nvPr/>
        </p:nvSpPr>
        <p:spPr>
          <a:xfrm>
            <a:off x="428760" y="19285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Тема 8   Производство аграрной продук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843588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 Каналы распределения и формы сбыта продукции</a:t>
            </a:r>
            <a:br>
              <a:rPr sz="32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42920" y="1000080"/>
            <a:ext cx="88581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налы распределени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это совокупность коммерческих организаций и коммерсантов, которые принимают на себя или помогают принять право собственности на конкретный товар на его пути от товаропроизводителя к потребителю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анал нулевого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ровня(прямого сбыта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дноуровневы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ана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вухуровневы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анал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рёхуров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евы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ана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хема распределения продукции аграрного товаропроизводите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4"/>
          <p:cNvSpPr/>
          <p:nvPr/>
        </p:nvSpPr>
        <p:spPr>
          <a:xfrm>
            <a:off x="2428920" y="2643120"/>
            <a:ext cx="185724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оваропроизвод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5"/>
          <p:cNvSpPr/>
          <p:nvPr/>
        </p:nvSpPr>
        <p:spPr>
          <a:xfrm>
            <a:off x="5715000" y="2643120"/>
            <a:ext cx="19288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треб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6"/>
          <p:cNvSpPr/>
          <p:nvPr/>
        </p:nvSpPr>
        <p:spPr>
          <a:xfrm>
            <a:off x="1714680" y="3571920"/>
            <a:ext cx="164304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оваропроизвод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7"/>
          <p:cNvSpPr/>
          <p:nvPr/>
        </p:nvSpPr>
        <p:spPr>
          <a:xfrm>
            <a:off x="6500880" y="3571920"/>
            <a:ext cx="164304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треб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8"/>
          <p:cNvSpPr/>
          <p:nvPr/>
        </p:nvSpPr>
        <p:spPr>
          <a:xfrm>
            <a:off x="4143240" y="3571920"/>
            <a:ext cx="164304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озничный торг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9"/>
          <p:cNvSpPr/>
          <p:nvPr/>
        </p:nvSpPr>
        <p:spPr>
          <a:xfrm>
            <a:off x="1571760" y="4572000"/>
            <a:ext cx="14284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оваропроизв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д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0"/>
          <p:cNvSpPr/>
          <p:nvPr/>
        </p:nvSpPr>
        <p:spPr>
          <a:xfrm>
            <a:off x="3286080" y="4572000"/>
            <a:ext cx="15717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птовый торг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1"/>
          <p:cNvSpPr/>
          <p:nvPr/>
        </p:nvSpPr>
        <p:spPr>
          <a:xfrm>
            <a:off x="5286240" y="4572000"/>
            <a:ext cx="15717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озничный тор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гов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2"/>
          <p:cNvSpPr/>
          <p:nvPr/>
        </p:nvSpPr>
        <p:spPr>
          <a:xfrm>
            <a:off x="7286760" y="4572000"/>
            <a:ext cx="157140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треб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4"/>
          <p:cNvSpPr/>
          <p:nvPr/>
        </p:nvSpPr>
        <p:spPr>
          <a:xfrm>
            <a:off x="1214280" y="5572080"/>
            <a:ext cx="121464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оваропр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звод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5"/>
          <p:cNvSpPr/>
          <p:nvPr/>
        </p:nvSpPr>
        <p:spPr>
          <a:xfrm>
            <a:off x="2786040" y="5572080"/>
            <a:ext cx="135720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птов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оргов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6"/>
          <p:cNvSpPr/>
          <p:nvPr/>
        </p:nvSpPr>
        <p:spPr>
          <a:xfrm>
            <a:off x="4429080" y="5572080"/>
            <a:ext cx="135720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елкооптовый торгов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7"/>
          <p:cNvSpPr/>
          <p:nvPr/>
        </p:nvSpPr>
        <p:spPr>
          <a:xfrm>
            <a:off x="6072120" y="5572080"/>
            <a:ext cx="121464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ознич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оргов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8"/>
          <p:cNvSpPr/>
          <p:nvPr/>
        </p:nvSpPr>
        <p:spPr>
          <a:xfrm>
            <a:off x="7572240" y="5572080"/>
            <a:ext cx="128592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треб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Прямая со стрелкой 19"/>
          <p:cNvCxnSpPr/>
          <p:nvPr/>
        </p:nvCxnSpPr>
        <p:spPr>
          <a:xfrm>
            <a:off x="3357720" y="3785760"/>
            <a:ext cx="786240" cy="252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92" name="Прямая со стрелкой 20"/>
          <p:cNvCxnSpPr/>
          <p:nvPr/>
        </p:nvCxnSpPr>
        <p:spPr>
          <a:xfrm>
            <a:off x="6857640" y="4785840"/>
            <a:ext cx="429480" cy="252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93" name="Прямая со стрелкой 23"/>
          <p:cNvCxnSpPr/>
          <p:nvPr/>
        </p:nvCxnSpPr>
        <p:spPr>
          <a:xfrm>
            <a:off x="4857840" y="4785840"/>
            <a:ext cx="429120" cy="252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94" name="Прямая со стрелкой 24"/>
          <p:cNvCxnSpPr/>
          <p:nvPr/>
        </p:nvCxnSpPr>
        <p:spPr>
          <a:xfrm>
            <a:off x="3000240" y="4785840"/>
            <a:ext cx="286560" cy="252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95" name="Прямая со стрелкой 29"/>
          <p:cNvCxnSpPr/>
          <p:nvPr/>
        </p:nvCxnSpPr>
        <p:spPr>
          <a:xfrm>
            <a:off x="2428920" y="5785920"/>
            <a:ext cx="286560" cy="252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96" name="Прямая со стрелкой 31"/>
          <p:cNvCxnSpPr/>
          <p:nvPr/>
        </p:nvCxnSpPr>
        <p:spPr>
          <a:xfrm>
            <a:off x="4143240" y="5785920"/>
            <a:ext cx="286560" cy="252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97" name="Прямая со стрелкой 32"/>
          <p:cNvCxnSpPr/>
          <p:nvPr/>
        </p:nvCxnSpPr>
        <p:spPr>
          <a:xfrm>
            <a:off x="5786280" y="5785920"/>
            <a:ext cx="286560" cy="252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98" name="Прямая со стрелкой 33"/>
          <p:cNvCxnSpPr/>
          <p:nvPr/>
        </p:nvCxnSpPr>
        <p:spPr>
          <a:xfrm>
            <a:off x="7286400" y="5785920"/>
            <a:ext cx="286200" cy="252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99" name="Прямая со стрелкой 38"/>
          <p:cNvCxnSpPr/>
          <p:nvPr/>
        </p:nvCxnSpPr>
        <p:spPr>
          <a:xfrm>
            <a:off x="5785920" y="3785760"/>
            <a:ext cx="715320" cy="252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00" name="Прямая со стрелкой 43"/>
          <p:cNvCxnSpPr/>
          <p:nvPr/>
        </p:nvCxnSpPr>
        <p:spPr>
          <a:xfrm>
            <a:off x="4285800" y="2857680"/>
            <a:ext cx="1429560" cy="216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2" name=""/>
          <p:cNvSpPr txBox="1"/>
          <p:nvPr/>
        </p:nvSpPr>
        <p:spPr>
          <a:xfrm>
            <a:off x="428400" y="928800"/>
            <a:ext cx="84294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4492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анал нулевого уровн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стоит из товаропроизводителя, продающего товар непосредственно потребителям. Наиболее распространенный способ прямой продажи — это торговля через магазин, принадлежащий товаропроизводител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4492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дноуровневый канал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ключает в себя одного посредника, которым обычно бывает розничный торговец, или агент по сбыту, или брокер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4492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Двухуровневый канал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ключает в себя двух посредников — оптовый и розничный торговц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4492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Трехуровневый канал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стоит из трех посредников; в этом случае между оптовым и розничным торговцем стоит мелкий оптовик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57168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качестве посредников в продвижении товаров от аграрного товаропроизводителя к конечным потребителям выступает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оптова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розничная торговл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птовая торговл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— это совокупность коммерческих организаций и предприятий, которые приобретают или хранят товары и перепродают их розничной торговле, другим торговым организациям и предприятия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озничная торговл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любая деятельность по продаже товаров или услуг непосредственно конечным потребителям для их личного некоммерческого использов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2"/>
          <a:stretch/>
        </p:blipFill>
        <p:spPr>
          <a:xfrm>
            <a:off x="3143160" y="4714920"/>
            <a:ext cx="285768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0" name=""/>
          <p:cNvSpPr txBox="1"/>
          <p:nvPr/>
        </p:nvSpPr>
        <p:spPr>
          <a:xfrm>
            <a:off x="457200" y="714240"/>
            <a:ext cx="82296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44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зволяет товаропроизводителям сбывать свои товары на местах с минимумом контактов с потребителям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44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еспечивает подготовленный торговый персона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44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еспечивает сбытовую и техническую поддержку для товаропроизводителя или поставщика и розничного или коммерческого потребител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44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бирает ассортимент товаров для их потребителей и позволяет заключать меньше сдело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44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купает товары в больших количествах, позволя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тавлять их полнотоннажными партиями и снижая издержки поставо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44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еспечивает материальную базу для хранения и поставо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44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оставляет финансовую помощь как товаро­производителям (оплачивая товары при их поставке, а не при продаже), так и розничным или коммерческим потребителям (через торговый кредит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44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дет кредитную и бухгалтерскую отчетность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44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шает проблемы возврата товаров и делает скидки на дефективную продукцию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44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ерет на себя риск, отвечая за хищения, повреждения и устаревание запас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4"/>
          <p:cNvSpPr/>
          <p:nvPr/>
        </p:nvSpPr>
        <p:spPr>
          <a:xfrm>
            <a:off x="2151000" y="214200"/>
            <a:ext cx="26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товая торговл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4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ahoma"/>
              </a:rPr>
              <a:t>Функции оптовой торгов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4"/>
          <p:cNvSpPr/>
          <p:nvPr/>
        </p:nvSpPr>
        <p:spPr>
          <a:xfrm>
            <a:off x="2857680" y="642960"/>
            <a:ext cx="3357360" cy="714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птовая торгов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5"/>
          <p:cNvSpPr/>
          <p:nvPr/>
        </p:nvSpPr>
        <p:spPr>
          <a:xfrm>
            <a:off x="714240" y="1928880"/>
            <a:ext cx="22147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мощь в сбы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о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6"/>
          <p:cNvSpPr/>
          <p:nvPr/>
        </p:nvSpPr>
        <p:spPr>
          <a:xfrm>
            <a:off x="3500280" y="1928880"/>
            <a:ext cx="22147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дготовка торгового персон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8"/>
          <p:cNvSpPr/>
          <p:nvPr/>
        </p:nvSpPr>
        <p:spPr>
          <a:xfrm>
            <a:off x="6215040" y="1928880"/>
            <a:ext cx="22147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абор ассортимента то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1"/>
          <p:cNvSpPr/>
          <p:nvPr/>
        </p:nvSpPr>
        <p:spPr>
          <a:xfrm>
            <a:off x="714240" y="3214800"/>
            <a:ext cx="22147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аза для хранения то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12"/>
          <p:cNvSpPr/>
          <p:nvPr/>
        </p:nvSpPr>
        <p:spPr>
          <a:xfrm>
            <a:off x="714240" y="4572000"/>
            <a:ext cx="22147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едение учёта и отчё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13"/>
          <p:cNvSpPr/>
          <p:nvPr/>
        </p:nvSpPr>
        <p:spPr>
          <a:xfrm>
            <a:off x="3500280" y="3214800"/>
            <a:ext cx="22147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Финансовая помощь производителям и потребител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14"/>
          <p:cNvSpPr/>
          <p:nvPr/>
        </p:nvSpPr>
        <p:spPr>
          <a:xfrm>
            <a:off x="3500280" y="4572000"/>
            <a:ext cx="22147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ешение проблем возврата то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5"/>
          <p:cNvSpPr/>
          <p:nvPr/>
        </p:nvSpPr>
        <p:spPr>
          <a:xfrm>
            <a:off x="6215040" y="3214800"/>
            <a:ext cx="22147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акуп больших партий то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6"/>
          <p:cNvSpPr/>
          <p:nvPr/>
        </p:nvSpPr>
        <p:spPr>
          <a:xfrm>
            <a:off x="6215040" y="4572000"/>
            <a:ext cx="22147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тветственность за ри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19"/>
          <p:cNvSpPr/>
          <p:nvPr/>
        </p:nvSpPr>
        <p:spPr>
          <a:xfrm>
            <a:off x="2928960" y="2386080"/>
            <a:ext cx="5713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ая соединительная линия 21"/>
          <p:cNvSpPr/>
          <p:nvPr/>
        </p:nvSpPr>
        <p:spPr>
          <a:xfrm>
            <a:off x="2928960" y="3643200"/>
            <a:ext cx="57132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ая соединительная линия 22"/>
          <p:cNvSpPr/>
          <p:nvPr/>
        </p:nvSpPr>
        <p:spPr>
          <a:xfrm>
            <a:off x="5643720" y="2357280"/>
            <a:ext cx="57132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23"/>
          <p:cNvSpPr/>
          <p:nvPr/>
        </p:nvSpPr>
        <p:spPr>
          <a:xfrm>
            <a:off x="5643720" y="3643200"/>
            <a:ext cx="57132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ая соединительная линия 24"/>
          <p:cNvSpPr/>
          <p:nvPr/>
        </p:nvSpPr>
        <p:spPr>
          <a:xfrm>
            <a:off x="2928960" y="5000760"/>
            <a:ext cx="5713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ая соединительная линия 25"/>
          <p:cNvSpPr/>
          <p:nvPr/>
        </p:nvSpPr>
        <p:spPr>
          <a:xfrm>
            <a:off x="5643720" y="5000760"/>
            <a:ext cx="5713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27"/>
          <p:cNvSpPr/>
          <p:nvPr/>
        </p:nvSpPr>
        <p:spPr>
          <a:xfrm>
            <a:off x="3142440" y="1357200"/>
            <a:ext cx="71640" cy="3643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30"/>
          <p:cNvSpPr/>
          <p:nvPr/>
        </p:nvSpPr>
        <p:spPr>
          <a:xfrm>
            <a:off x="5928480" y="1357200"/>
            <a:ext cx="71640" cy="3643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4" name=""/>
          <p:cNvSpPr txBox="1"/>
          <p:nvPr/>
        </p:nvSpPr>
        <p:spPr>
          <a:xfrm>
            <a:off x="457200" y="356760"/>
            <a:ext cx="82296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уществуют три общие категории организации оптовой торговой деятельност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товая деятельность непосредственно самого товаропроизводителя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мерческая оптовая деятельность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генты и брокер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оптовой деятельности товаропроизводителя последний самостоятельно выполняет все оптовые функции. Это происходит в том случае, когда товаропроизводитель полагает, что выйдет на розничную торговлю или на других потребителей наиболее эффективно, если возьмет на себя ответственность за функции оптового сбы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мерческие оптовые организации покупают, получают право собственности на продукцию аграрного товаропроизводителя для последующей перепродажи. Коммерческие оптовые организации могут предоставлять товаропроизводителю полную совокупность услуг или ограниченное обслуживани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генты и брокеры выполняют различные оптовые функции, однако не имеют права собственности на това­ры. В отличие от коммерческих оптовых организаций, которые получают прибыль от продажи принадлежащих им товаров, агенты и брокеры работают за комиссионное вознаграждение или платежи за их услуги. Главное различие между агентами и брокерами заключается в том, что первые обычно используются на постоянной основе, а последние — временн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-324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6" name=""/>
          <p:cNvSpPr txBox="1"/>
          <p:nvPr/>
        </p:nvSpPr>
        <p:spPr>
          <a:xfrm>
            <a:off x="428400" y="428760"/>
            <a:ext cx="835812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озничная торгов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зничная торговля включает всю предпринимательскую деятельность, в том числе самих товаропроизводителей, связанную с продажей товаров и услуг конечным потребителям для личного, семейного или домашнего использования. Это конечный этап каналов сбыт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2"/>
          <a:stretch/>
        </p:blipFill>
        <p:spPr>
          <a:xfrm>
            <a:off x="1357200" y="4071960"/>
            <a:ext cx="2857680" cy="1785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"/>
          <p:cNvPicPr/>
          <p:nvPr/>
        </p:nvPicPr>
        <p:blipFill>
          <a:blip r:embed="rId3"/>
          <a:stretch/>
        </p:blipFill>
        <p:spPr>
          <a:xfrm>
            <a:off x="4500720" y="4000680"/>
            <a:ext cx="285732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0" name=""/>
          <p:cNvSpPr txBox="1"/>
          <p:nvPr/>
        </p:nvSpPr>
        <p:spPr>
          <a:xfrm>
            <a:off x="457200" y="50004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целом розничная торговля выполняет четыре различные функци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аствует в процессе сортировки, собирая ассортимент товаров и услуг из большого числа поставщиков, и предлагает их для продажи; ширина и глубина ассортимента зависит от стратегии конкретного розничного торговц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оставляет информацию потребителям через рекламу, а также персонал; оказывает содействие в рыночных исследованиях другим участникам каналов сбыт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ранит товары, устанавливает на них цену, располагает в торговых помещениях и осуществляет прочие операции с товарам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атит поставщикам за продукцию, до ее продажи конечным потребителям; завершает сделки, осуществляет кредитную политику и предоставляет другие услуги, например достав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/>
          <p:cNvSpPr txBox="1"/>
          <p:nvPr/>
        </p:nvSpPr>
        <p:spPr>
          <a:xfrm>
            <a:off x="57168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ункции розничной торгов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8"/>
          <p:cNvSpPr/>
          <p:nvPr/>
        </p:nvSpPr>
        <p:spPr>
          <a:xfrm>
            <a:off x="1785960" y="1285920"/>
            <a:ext cx="2571840" cy="1857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ортировка това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9"/>
          <p:cNvSpPr/>
          <p:nvPr/>
        </p:nvSpPr>
        <p:spPr>
          <a:xfrm>
            <a:off x="4357800" y="1285920"/>
            <a:ext cx="2428920" cy="1857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Заверш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де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10"/>
          <p:cNvSpPr/>
          <p:nvPr/>
        </p:nvSpPr>
        <p:spPr>
          <a:xfrm>
            <a:off x="4357800" y="3714840"/>
            <a:ext cx="2428920" cy="1857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перации с товар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1"/>
          <p:cNvSpPr/>
          <p:nvPr/>
        </p:nvSpPr>
        <p:spPr>
          <a:xfrm>
            <a:off x="1857240" y="3714840"/>
            <a:ext cx="2500560" cy="1857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Информирование потреб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2"/>
          <p:cNvSpPr/>
          <p:nvPr/>
        </p:nvSpPr>
        <p:spPr>
          <a:xfrm>
            <a:off x="2428920" y="3143160"/>
            <a:ext cx="3714840" cy="5716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озничная торгов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9" name=""/>
          <p:cNvSpPr txBox="1"/>
          <p:nvPr/>
        </p:nvSpPr>
        <p:spPr>
          <a:xfrm>
            <a:off x="571680" y="714240"/>
            <a:ext cx="82296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ольшинство видов аграрной продукции продается непосредственно оптовым покупателям, каковыми являются заготовительные и перерабатывающие предприятия и организац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грарный товаропроизводитель может продавать свою продукцию (картофель, овощи, плоды и др.) непосредственно потребителям через собственную розничную торговую сеть. Он может дать право на продажу своей продукции непосредственно торговым организация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уществуют три основных способа перехода товара от товаропроизводителя к другому владельц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4492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пля-продажа физического товар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4492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ключение двусторонних контрактов на поставку  товара в будущем (форвард-контрактов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4492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пля-продажа биржевых контрактов (фьючерсов и опционов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Стрелка вниз 4"/>
          <p:cNvSpPr/>
          <p:nvPr/>
        </p:nvSpPr>
        <p:spPr>
          <a:xfrm>
            <a:off x="4214880" y="5929200"/>
            <a:ext cx="571320" cy="64296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-45864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85880" y="999720"/>
            <a:ext cx="257184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лан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28760" y="1714320"/>
            <a:ext cx="8229600" cy="285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1. Состав валовой аграрной продукции, факторы ее воспроизвод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2. Изокванты: понятие, знач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3.Товарность аграрного производства, пути ее повыш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4. Каналы распределения и формы сбыта продук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2" name=""/>
          <p:cNvSpPr txBox="1"/>
          <p:nvPr/>
        </p:nvSpPr>
        <p:spPr>
          <a:xfrm>
            <a:off x="500040" y="571320"/>
            <a:ext cx="82296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449280"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рговля физическим товаром на бирже может производиться либо как на обычном базаре, т. е. продается наличный товар после осмотра его покупателем и установления цены в зависимости от качества и других параметров, либо по образцам товара, как это происходит на оптовых рынках и ярмарка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49280"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ставка товара на биржу осуществляется товаропроизводителем, а с биржи его везет уже покупатель. При торговле физическим товаром у биржи, как правило, имеются склады для хранения привезенного, но еще не проданного или проданного, но еще не вывезенного товара. Но в практике современных бирж торговля физическим товаром — явление редкое. При заключении двусторонних опережающих контрактов (форвард-контрактов) товаропроизводитель и покупатель берут на себя взаимные обязательства по доставке и приемке продукции, ее качеству, срокам поставки, цене и способам ее определения, а также о порядке оплаты выполненного контракта. Двусторонние форвард-контракты могут заключаться на любые товары. Единственным ограничением здесь по сравнению с рынком физических товаров является необходимость указания в договоре стандартов на продукци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49280"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иболее распространенным способом перехода товара от одного владельца к другому являются фьючерсные, или срочные, сделки. Смысл таких сделок состоит в том, что товаропроизводитель продает биржевому служащему брокеру еще не выращенный и даже не посеянный или не посаженный урожай и получает необходимые средства, уплачивая некоторую сумму брокеру за посредничество при сделке. Брокер же, прикинув объем предполагаемых продуктов, заключает по ним долгосрочные контракт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4928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44928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низ 5"/>
          <p:cNvSpPr/>
          <p:nvPr/>
        </p:nvSpPr>
        <p:spPr>
          <a:xfrm>
            <a:off x="4214880" y="14292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остав валовой аграрной продукции, факторы ее воспроизвод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нечным материальным результатом аграрного производства является валовая продукц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аловая продукция аграрного производств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это суммарное ее количество, произведенное за определенное время. В ее состав включают только продукцию растениеводства и животноводст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казателями валовой продукции, исчисленными в центнерах, тоннах и других единицах, являютс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indent="4492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растениеводств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— валовой сбор урожая отдельной культуры или группы однородных сельскохозяйственных культур, изменение прироста незавершенного производства в земледелии (затраты на посев озимых культур, по подготовке почвы под урожай будущего года) и молодых многолетних насаждений, а также прочая (побочная) продукция отрасли — солома и др.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indent="4492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 животноводств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— валовое поступление отдельных видов готовой продукции (молоко, шерсть, яйца и др.), приплод, прирост живой массы скота и птицы, а также прочая (побочная) продукция отрасли — навоз и д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indent="449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indent="449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7" name=""/>
          <p:cNvSpPr txBox="1"/>
          <p:nvPr/>
        </p:nvSpPr>
        <p:spPr>
          <a:xfrm>
            <a:off x="357120" y="57168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личают два вида воспроизводства аграрной продукции-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стое и расширенно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4492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простом воспроизводстве вследствие отсутствия накоплений процесс производства повторяется в прежних размерах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4492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расширенном воспроизводстве размеры производства продукции с каждым годом увеличиваются в результате использования накоплени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акторы  расширенное воспроизводство аграрной продукции –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кстенсивными и интенсивны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4492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К экстенсивным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носят количественные факторы, находящие свое выражение в величине производственных ресурсов. Увеличение или уменьшение работающих, посевных площадей, поголовья скота, объема основных материальных оборотных средств приводит к изменению количества валовой продукц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4492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Интенсивным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являются факторы увеличения производства аграрной продукции, основанные на качественном улучшении использования функционирующего потенциала. Решающими из них являются урожайность сельскохозяйственных культур и продуктивность ско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449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-324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9" name=""/>
          <p:cNvSpPr txBox="1"/>
          <p:nvPr/>
        </p:nvSpPr>
        <p:spPr>
          <a:xfrm>
            <a:off x="428760" y="1428480"/>
            <a:ext cx="82864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тематически (и графически) производство аграрной продукции можно описать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изводственной функцией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изводственная функц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указывает максимальный объем продукции Н, который может быть произведен при определенной технологии с использованием определенных факторов (ресурсов). В формализованном виде производственная функция выглядит следующим образом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 = Ф. (3, Т, ОС, М0б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нное уравнение показывает, что объем производства аграрной продукции, зависит от количества четырех факторов — земли, труда, основных и материальных оборотных средств. С помощью производственной функции можно определить объем максимального урожая, который может быть получен при тех или иных сочетаниях факторов производства. При этом одни факторы могут быть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стоянными (фиксированными)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другие —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еременны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6"/>
          <p:cNvSpPr/>
          <p:nvPr/>
        </p:nvSpPr>
        <p:spPr>
          <a:xfrm>
            <a:off x="1214280" y="428760"/>
            <a:ext cx="64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Изокванты: понятие, зна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531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2" name=""/>
          <p:cNvSpPr txBox="1"/>
          <p:nvPr/>
        </p:nvSpPr>
        <p:spPr>
          <a:xfrm>
            <a:off x="499680" y="1356840"/>
            <a:ext cx="835812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чени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зокван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заключается в том, что они отражают гибкость принимаемых товаропроизводителями решений по производству продукц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большинстве случаев производители могут добиться производства определенного объема продукции, используя различные сочетания производственных фактор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ряду с этим использование изоквант позволяет производителю выбирать такие сочетания производственных факторов, которые минимизируют издержки производства продукции и максимизируют величину прибы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63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3. Товарность аграрного производства, пути ее повыш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00040" y="185724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оварная продукция аграрного производств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это часть валовой аграрной продукции, предназначенной для сбыта по всем каналам рынка - государству, потребительской кооперации, на рынке, через столовые, детские учреждения, другим странам и т. 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варность аграрного производства в целом и отдельных видов продукции может быть выражена несколькими показателями, основными из которых являются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4492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ее количество товарной продукции (размер товарного фонда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4492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личество товарной продукции в расчете на 1 га земельных угодий (сельхозугодий, пашни), на 1 голову скот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4492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ровень товар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8" name=""/>
          <p:cNvSpPr txBox="1"/>
          <p:nvPr/>
        </p:nvSpPr>
        <p:spPr>
          <a:xfrm>
            <a:off x="428760" y="714240"/>
            <a:ext cx="82296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ровень товарност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это отношение реализованной продукции к валовой, выраженное в процентах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ровень товарности в условиях рыночных отношений определяется двумя факторами — предложением и спросо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определении уровня товарности отдельных видов продукции пользуютс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4356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личинами валовой и реализованной продукции в натуральном выражении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определении уровня товарности в целом пользуются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4356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оимостным выражением валовой реализованной продукц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этом валовая и реализованная продукция (РП; СРП) оцениваются в единых ценах. Уровень товарности (Т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у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 может быть рассчитан по формул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435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5"/>
              <p:cNvSpPr txBox="1"/>
              <p:nvPr/>
            </p:nvSpPr>
            <p:spPr>
              <a:xfrm>
                <a:off x="3000240" y="4857840"/>
                <a:ext cx="292896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Т</m:t>
                        </m:r>
                      </m:e>
                      <m:sub>
                        <m:r>
                          <m:t xml:space="preserve">у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РП;СРП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ВП;СВП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Rectangle 7"/>
          <p:cNvSpPr/>
          <p:nvPr/>
        </p:nvSpPr>
        <p:spPr>
          <a:xfrm>
            <a:off x="4456440" y="7228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73" name=""/>
          <p:cNvSpPr txBox="1"/>
          <p:nvPr/>
        </p:nvSpPr>
        <p:spPr>
          <a:xfrm>
            <a:off x="457200" y="49968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роприятия, способствующие увеличению количества товарной продукци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ст производства валовой продукции за счет повышения урожайности сельскохозяйственных культур и продуктивности ско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кращение внутрипроизводственного расходования продукции за счет использования заменителя цельного молока (ЗЦМ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лучшение качества семян и кормов, а также использование кормов промышленного производст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кращение потерь продукции в процессе ее производства, при хранении и реализ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вышением уровня товарности продукции также является хорошо организованный маркетин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ublic access user</dc:creator>
  <dc:description/>
  <dc:language>en-US</dc:language>
  <cp:lastModifiedBy>1</cp:lastModifiedBy>
  <dcterms:modified xsi:type="dcterms:W3CDTF">2014-01-19T16:54:31Z</dcterms:modified>
  <cp:revision>49</cp:revision>
  <dc:subject/>
  <dc:title>Тема 4. Рынки ресурсов. Рынок земли</dc:title>
</cp:coreProperties>
</file>